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C307-C53C-4BD4-A3B2-36CC92A4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87216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9981-4E11-42A3-A3E9-6D02217F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62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4677-E313-4EB1-918F-8EDB7FF3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492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76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817B-6707-4324-A0B9-CBF4E9A5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4E27-0A45-469A-818F-00B30045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E28E-301B-44E5-A58D-244044E9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CBB2-1FC3-4EA0-92FD-516F46E0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7C7E-1596-4C82-AFCB-EEC0F629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EC00-75A3-408A-8964-8D35F8FE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7424-BD4B-441E-81DD-8D346115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6F1E-59F5-4564-8934-5B981C3E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9F37-5FBE-4A06-96A1-007ADDD0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62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A5E0-347C-41CC-90BF-16AB8CEF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7DCE-33AD-449B-9097-59663D36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387216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A71F-CC08-45B4-9E85-45CCAFF6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62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9EEA-CE80-4E94-8C31-A019D58E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492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476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0698-F97E-434F-B4DF-19F6D75D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ECFF6-C4C6-4100-9B87-8452AA36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D9DA4-6B5D-445F-96E6-E5A0B32B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2A03F-E8ED-472F-A3F7-08326C6C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49E6E-307E-4B61-83F2-6C73C1A2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B105D-B665-42E4-83BC-8CE6DD3B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9D0D-D584-438A-A5C7-34FAE02E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AD3F0-706A-4F13-8C42-34D0FC32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7506D-AE2E-44DC-AFFB-E8B45B9F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462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FCE4D-4289-47D3-814D-B9FB13A5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7B5D2-E132-49AE-A882-9204E54A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440" y="387216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CCAEE-EE7A-4D8F-B23B-0647B335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462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F2B1D-4E06-4623-AE76-B0C3D971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44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6492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4476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D30DB-ADDC-44FE-9358-C609CFF3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3B41-04DD-4BE6-B555-8723A277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5CC2-E044-4D01-823F-35D61F82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07E4-D7A1-4C4A-832C-E3EEE068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A4F2-77B9-4219-BC12-87049545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62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A132-232C-41E6-99B1-3CDC15C1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7B5F-A6FE-40F7-85FB-8E06873A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others 3-2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Constantia"/>
              </a:rPr>
              <a:t>Click to edit the title text format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25EF-C371-409C-8947-840ED15FDCB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2" descr="other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EXPHORSA"/>
          <p:cNvPicPr/>
          <p:nvPr/>
        </p:nvPicPr>
        <p:blipFill>
          <a:blip r:embed="rId3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Constantia"/>
              </a:rPr>
              <a:t>Click to edit the title text format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標楷體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標楷體"/>
                <a:ea typeface="標楷體"/>
              </a:rPr>
              <a:t>101.08.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82400"/>
                </a:solidFill>
                <a:latin typeface="標楷體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82400"/>
                </a:solidFill>
                <a:latin typeface="標楷體"/>
                <a:ea typeface="標楷體"/>
              </a:rPr>
              <a:t>總務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76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標楷體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94D9-4841-439B-9001-03945E56F08D}" type="slidenum">
              <a:rPr b="0" lang="en-US" sz="1400" spc="-1" strike="noStrike">
                <a:solidFill>
                  <a:srgbClr val="482400"/>
                </a:solidFill>
                <a:latin typeface="標楷體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4" descr="others 3-2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Constantia"/>
              </a:rPr>
              <a:t>Click to edit the title text format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標楷體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標楷體"/>
                <a:ea typeface="標楷體"/>
              </a:rPr>
              <a:t>101.08.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82400"/>
                </a:solidFill>
                <a:latin typeface="標楷體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82400"/>
                </a:solidFill>
                <a:latin typeface="標楷體"/>
                <a:ea typeface="標楷體"/>
              </a:rPr>
              <a:t>總務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標楷體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6E9D-BB5D-4A57-8D7A-777134003EDF}" type="slidenum">
              <a:rPr b="0" lang="en-US" sz="1400" spc="-1" strike="noStrike">
                <a:solidFill>
                  <a:srgbClr val="482400"/>
                </a:solidFill>
                <a:latin typeface="標楷體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image" Target="../media/image2.png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8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103</a:t>
            </a: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學年度 期初校務會議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2640" y="403812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總務處  許錦芳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03.08.29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事務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2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營繕工作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行文申請修繕補助，規劃設計中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活動中心屋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高中中庭木地板腐朽、排水管斷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響應綠色採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本年度須達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90%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的綠色採購比率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事務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3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響應環境教育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參與臺灣綠色夥伴學校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提報資料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進修交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水電節能持續行動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不使用一次性物品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教學支援服務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發放每位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新進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同仁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個電梯卡，離校時繳回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請妥善保管，遺失者須申請銷號並收工本費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80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元補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如有需要校正頻率，請逕洽事務組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事務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4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教學支援服務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發放每位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新進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同仁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張影印卡，離校時繳回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請妥善保管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可直接書寫名字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遺失者加值額度無法重新計算，並須收工本費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50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每次加值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500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張，每學期限定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影印機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租賃影印機放置於教處、學務、總務、輔導四處室、圖書館，皆有提供簡便的掃描功能；每月契約量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萬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建請使用合併、環保方式影印，減少支出、節碳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逾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0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張需求者，請送印刷室為您服務；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個工作天即可取回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事務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5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教學支援服務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報修管道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至總務處填寫修繕單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至學校首頁填寫校園修繕系統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&gt;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記得覆核喔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緊急案件，電話連繫事務組員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請協助提供完整的修繕通報資訊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地點、位置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外型、數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故障情形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與我們聯繫追蹤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事務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6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門禁安全管制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請同仁多留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分鐘，原地確認安全關閉車庫鐵捲門、教宿與學宿電動門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非行政辦公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鑰匙交給級導師或代表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下班後關鎖門窗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非上班時間有緊急公務需要時，請先聯繫警衛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教室：勸導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次後懲處相關人員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下課後關鎖門窗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國中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樓以上以鐵捲門加強防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事務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7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勿在辦公室、教室、宿舍房內自行使用高耗電量的電器，以免跳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辦公室、教室通風與照明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1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儘量開啟窗戶促進對流、採光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2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冷氣的使用原則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上課期間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0:00-17:0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室溫逾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8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度時供電，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4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度以下斷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使用溫度應設定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6-28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高中教室使用儲值卡：發放母班、學程班、重修自學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3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高三班級、學生宿舍冷氣的使用費率公告於首頁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0" name="Picture 4" descr="C:\Users\Shie\AppData\Local\Microsoft\Windows\Temporary Internet Files\Content.IE5\8A09H1NT\MC900382593[1].jpg"/>
          <p:cNvPicPr/>
          <p:nvPr/>
        </p:nvPicPr>
        <p:blipFill>
          <a:blip r:embed="rId6"/>
          <a:stretch/>
        </p:blipFill>
        <p:spPr>
          <a:xfrm>
            <a:off x="8032680" y="0"/>
            <a:ext cx="1111320" cy="11127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文書工作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行政同仁須掌握公文簽辦、報表時間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下載完整附件以了解案情全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具體敘明辦理程序及會辦事項，避免抽象、模糊之用語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7030a0"/>
                </a:solidFill>
                <a:latin typeface="標楷體"/>
                <a:ea typeface="標楷體"/>
              </a:rPr>
              <a:t>製據仍以紙本公文為憑。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可以紙本辦理後掃描作為二代公文的辦理附件結案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會簽同仁亦請配合注意時效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行事曆如有需要請即時更正，並告知相關人員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3" name="Picture 4" descr="C:\Users\Shie\AppData\Local\Microsoft\Windows\Temporary Internet Files\Content.IE5\8A09H1NT\MC900382593[1].jpg"/>
          <p:cNvPicPr/>
          <p:nvPr/>
        </p:nvPicPr>
        <p:blipFill>
          <a:blip r:embed="rId7"/>
          <a:stretch/>
        </p:blipFill>
        <p:spPr>
          <a:xfrm>
            <a:off x="7740720" y="5229360"/>
            <a:ext cx="1111320" cy="11127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自設廚房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1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440" y="1341000"/>
            <a:ext cx="7924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午、晚餐菜單依往例公告於學校首頁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午餐收費：以餐計費，每餐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43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晚餐收費：以餐計費，每餐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6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請導師協助指導班級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弱勢學生早餐券、午餐補助申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7030a0"/>
                </a:solidFill>
                <a:latin typeface="標楷體"/>
                <a:ea typeface="標楷體"/>
              </a:rPr>
              <a:t>補助僅限於午餐費；</a:t>
            </a:r>
            <a:r>
              <a:rPr b="0" lang="en-US" sz="2000" spc="-1" strike="noStrike">
                <a:solidFill>
                  <a:srgbClr val="7030a0"/>
                </a:solidFill>
                <a:latin typeface="標楷體"/>
                <a:ea typeface="標楷體"/>
              </a:rPr>
              <a:t>103</a:t>
            </a:r>
            <a:r>
              <a:rPr b="0" lang="zh-TW" sz="2000" spc="-1" strike="noStrike">
                <a:solidFill>
                  <a:srgbClr val="7030a0"/>
                </a:solidFill>
                <a:latin typeface="標楷體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7030a0"/>
                </a:solidFill>
                <a:latin typeface="標楷體"/>
                <a:ea typeface="標楷體"/>
              </a:rPr>
              <a:t>2</a:t>
            </a:r>
            <a:r>
              <a:rPr b="0" lang="zh-TW" sz="2000" spc="-1" strike="noStrike">
                <a:solidFill>
                  <a:srgbClr val="7030a0"/>
                </a:solidFill>
                <a:latin typeface="標楷體"/>
                <a:ea typeface="標楷體"/>
              </a:rPr>
              <a:t>月起全額補助學生免費在校用餐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幹部訓練時發放申請表樣本；如有需要可自行影印，或再洽營養師領用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學生需以正楷詳實填寫各項資料，附上證件後送請導師簽章，於</a:t>
            </a:r>
            <a:r>
              <a:rPr b="0" lang="en-US" sz="2000" spc="-1" strike="noStrike">
                <a:solidFill>
                  <a:srgbClr val="7030a0"/>
                </a:solidFill>
                <a:latin typeface="標楷體"/>
                <a:ea typeface="標楷體"/>
              </a:rPr>
              <a:t>9/11(</a:t>
            </a:r>
            <a:r>
              <a:rPr b="0" lang="zh-TW" sz="2000" spc="-1" strike="noStrike">
                <a:solidFill>
                  <a:srgbClr val="7030a0"/>
                </a:solidFill>
                <a:latin typeface="標楷體"/>
                <a:ea typeface="標楷體"/>
              </a:rPr>
              <a:t>四</a:t>
            </a:r>
            <a:r>
              <a:rPr b="0" lang="en-US" sz="2000" spc="-1" strike="noStrike">
                <a:solidFill>
                  <a:srgbClr val="7030a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7030a0"/>
                </a:solidFill>
                <a:latin typeface="標楷體"/>
                <a:ea typeface="標楷體"/>
              </a:rPr>
              <a:t>前交回營養師彙整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r>
              <a:rPr b="0" lang="zh-TW" sz="2000" spc="-1" strike="noStrike">
                <a:solidFill>
                  <a:srgbClr val="c00000"/>
                </a:solidFill>
                <a:latin typeface="標楷體"/>
                <a:ea typeface="標楷體"/>
              </a:rPr>
              <a:t>如無證件而確有需要申請者，請導師撥冗家訪，於表上敘明符合需求之評估並簽章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自設廚房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2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440" y="1341360"/>
            <a:ext cx="792468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請導師協助指導班級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衛生安全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抬餐：務必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人成組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放餐：排放於餐桌、課桌椅上；不可放置地面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打餐：避免交談、逗留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餐後分類，送回餐桶、熟廚餘並掌握時效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公用餐具清洗前後均要留意洗手台清潔、不堵塞排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自設廚房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3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請導師協助指導班級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高中部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餐後餐盤稍做擦拭清理、交叉疊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不要讓學生自己留下學校餐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午餐的餐桶仍將於餐後集放至地下車庫，由輪值班級派公差整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各班需分區集放餐桶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公差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人到車庫，另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人到廚房前走廊待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例外狀況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各班自行送回廚房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開學幹部訓練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校慶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重大活動或突發狀況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業務報告大綱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本次會議注意事項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993300"/>
                </a:solidFill>
                <a:uFillTx/>
                <a:latin typeface="標楷體"/>
                <a:ea typeface="標楷體"/>
                <a:hlinkClick r:id="rId3" action="ppaction://hlinksldjump"/>
              </a:rPr>
              <a:t>總務處組織成員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993300"/>
                </a:solidFill>
                <a:uFillTx/>
                <a:latin typeface="標楷體"/>
                <a:ea typeface="標楷體"/>
                <a:hlinkClick r:id="rId5" action="ppaction://hlinksldjump"/>
              </a:rPr>
              <a:t>執掌與聯絡方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本學期工作主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事務工作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文書工作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自設廚房工作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自設廚房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4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請導師協助指導班級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國中部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需自備餐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餐後稍做擦拭清理、帶回家清洗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不要讓學生將餐具放在教室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公用餐具限定於</a:t>
            </a:r>
            <a:r>
              <a:rPr b="0" lang="en-US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1</a:t>
            </a:r>
            <a:r>
              <a:rPr b="0" lang="zh-TW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樓洗手台清洗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同樣要留意洗手台清潔、不堵塞排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如有學生須借用餐具，須帶學生證至總務處登記借用，限量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套，借完為止；</a:t>
            </a:r>
            <a:r>
              <a:rPr b="0" lang="zh-TW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累計借滿</a:t>
            </a:r>
            <a:r>
              <a:rPr b="0" lang="en-US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3</a:t>
            </a:r>
            <a:r>
              <a:rPr b="0" lang="zh-TW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次者將以警告壹次懲處，後續每次借用均記警告壹次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2" name="Picture 4" descr="C:\Users\Shie\AppData\Local\Microsoft\Windows\Temporary Internet Files\Content.IE5\8A09H1NT\MC900382593[1].jpg"/>
          <p:cNvPicPr/>
          <p:nvPr/>
        </p:nvPicPr>
        <p:blipFill>
          <a:blip r:embed="rId4"/>
          <a:stretch/>
        </p:blipFill>
        <p:spPr>
          <a:xfrm>
            <a:off x="7812000" y="5589720"/>
            <a:ext cx="1112760" cy="11109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總務處組織成員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pic>
        <p:nvPicPr>
          <p:cNvPr id="132" name="內容版面配置區 3" descr=""/>
          <p:cNvPicPr/>
          <p:nvPr/>
        </p:nvPicPr>
        <p:blipFill>
          <a:blip r:embed="rId1"/>
          <a:stretch/>
        </p:blipFill>
        <p:spPr>
          <a:xfrm>
            <a:off x="738360" y="1547640"/>
            <a:ext cx="8180280" cy="4694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Users\Shie\AppData\Local\Microsoft\Windows\Temporary Internet Files\Content.IE5\8A09H1NT\MC900382593[1].jpg"/>
          <p:cNvPicPr/>
          <p:nvPr/>
        </p:nvPicPr>
        <p:blipFill>
          <a:blip r:embed="rId2"/>
          <a:stretch/>
        </p:blipFill>
        <p:spPr>
          <a:xfrm>
            <a:off x="7956720" y="5732640"/>
            <a:ext cx="895320" cy="8967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總務處執掌與聯絡方式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請參閱學校首頁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/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各單位網頁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/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總務處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內有全體成員基本資訊、聯絡分機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各組執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相關資料提供下載使用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6" name="Picture 4" descr="C:\Users\Shie\AppData\Local\Microsoft\Windows\Temporary Internet Files\Content.IE5\8A09H1NT\MC900382593[1].jpg"/>
          <p:cNvPicPr/>
          <p:nvPr/>
        </p:nvPicPr>
        <p:blipFill>
          <a:blip r:embed="rId5"/>
          <a:stretch/>
        </p:blipFill>
        <p:spPr>
          <a:xfrm>
            <a:off x="7740720" y="5229360"/>
            <a:ext cx="1111320" cy="11127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本學期工作主軸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校園空間微調整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完成教學區門窗安全改善工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完成國高中化糞池改善工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緊急狀況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新籃球場燈柱不穩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校園整體規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成立規劃小組重新檢視校園需求與可行性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持續建立並修正各項工作制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本次校務會議注意事項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有請同仁配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part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參閱、熟知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03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上半年學校消防防護計畫，預防災害機動應變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配合分組簽到並參與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9/24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演練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本次校務會議注意事項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有請同仁配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part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本學期營養午餐搭餐調查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意願、葷素別、葷食取餐地點等可以現場填覆，或以電子郵件回覆營養師，或以電話聯繫確認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導師同仁無論搭餐與否，午餐時間請於教室指導學生用餐、環境衛生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晚餐搭餐規範請參閱首頁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各單位網頁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總務處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相關資料下載～「教職員工晚餐搭伙配合事宜暨搭退伙申請書」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本次校務會議注意事項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有請同仁配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part3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有意願申請住宿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已住宿同仁請參閱、熟知學校教師宿舍管理辦法、教師宿舍公約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本年度</a:t>
            </a:r>
            <a:r>
              <a:rPr b="0" lang="en-US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7</a:t>
            </a:r>
            <a:r>
              <a:rPr b="0" lang="zh-TW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月已來文要求恢復公證，並須訂定積分制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執行修繕通報，切勿私叫廠商，避免吃虧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已住宿同仁請於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9/4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四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16:15-17:00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至國中部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樓視聽教室參加「全體住戶會議」，選舉出管理委員會成員後，由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7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位委員繼續參加「管理委員會會議」。相關資料以電郵寄送，現場不印發書面資料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5" name="Picture 4" descr="C:\Users\Shie\AppData\Local\Microsoft\Windows\Temporary Internet Files\Content.IE5\8A09H1NT\MC900382593[1].jpg"/>
          <p:cNvPicPr/>
          <p:nvPr/>
        </p:nvPicPr>
        <p:blipFill>
          <a:blip r:embed="rId4"/>
          <a:stretch/>
        </p:blipFill>
        <p:spPr>
          <a:xfrm>
            <a:off x="7740720" y="5229360"/>
            <a:ext cx="1111320" cy="11127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事務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1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營繕工作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高中部教室冷氣控制系統建置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增班後增置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01-503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教室公共製物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高中中庭止滑試驗及南方松木板修繕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清洗水塔、蓄水池並完成水質檢驗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02:01:17Z</dcterms:created>
  <dc:creator>Shie</dc:creator>
  <dc:description/>
  <dc:language>en-US</dc:language>
  <cp:lastModifiedBy>Shie</cp:lastModifiedBy>
  <dcterms:modified xsi:type="dcterms:W3CDTF">2014-08-26T15:26:21Z</dcterms:modified>
  <cp:revision>55</cp:revision>
  <dc:subject/>
  <dc:title>101學年度 期初校務會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40849990</vt:lpwstr>
  </property>
</Properties>
</file>